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945A-D42A-4C5C-994D-3BF74B63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9452-57C1-4AFA-A7A2-CAE64BDC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31F9-94DB-4BD4-BE9B-A1991FA3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7644-AADE-4E6B-957E-1EE28EE1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2336-418A-4273-8B46-8FEE3D61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B623-8640-451B-9CE9-4B510997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CFC7-9B6E-4522-A6D4-2A67A46D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2BC8-2D77-410E-B976-521A4EB4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8A7-CB12-46FE-A183-DF0376A6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0769-D746-4EDC-BA99-40F03DA5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91A1-E4BC-4934-BEE0-DF36BD6B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AE5D-B05E-46B0-AF6C-BF89788B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0D6F-F8C0-4BFD-8AD1-34D5BACBD1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гостях у волшеб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 ПОЖАЛОВ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ОГО НИЧЕГО В ПРИРОДЕ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ЗДЕСЬ, НИ ТАМ В КОСМИЧЕСКИХ ГЛУБИНА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Ё - ОТ ПЕСЧИНОК МАЛЫХ – ДО ПЛА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ЭЛЕМЕНТОВ СОСТОИТ ЕДИНЫ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ФОРМУЛА, КАК ГРАФИК ТРУДОВ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Й МЕНДЕЛЕЕВСКОЙ СИСТЕМЫ СТРОГ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КРУГ ТЕБЯ ТВОРИТСЯ МИР ЖИВ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ХОДИ В НЕГО, ВДЫХАЙ, РУКАМИ ТРОГ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43160"/>
            <a:chOff x="0" y="0"/>
            <a:chExt cx="9144000" cy="674316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25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1322640" y="6344280"/>
              <a:ext cx="650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Макет химической лаборатории М.В.Ломоносов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суку сидит 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ыхает 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поги мои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пускают 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его все знаю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газине покуп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него не сваришь ужин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алых дозах в блюдах ну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лакон с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ычно имеется в каждой кварт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рожденья ребёнок любой с ним зна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ва лишь покинет он с мамой род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о искупают в ванночке с н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ь он для дезинфекции незамен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а чудо посмотр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аСО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доске он проезж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собой след оставля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ет у вас для т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ыхлителя, вы вместо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HCO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ите в пир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ведите с химического языка на общепринят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ё то аурум, что блес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ый, как карбонат каль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й феррум, пока горяч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– аргентум, а молчание – аур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прумного гроша не сто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ойкий станумный солдат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яжёлые плюмбумные ту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4T08:20:20Z</dcterms:created>
  <dc:creator>евросеть</dc:creator>
  <dc:description/>
  <dc:language>en-US</dc:language>
  <cp:lastModifiedBy>PC</cp:lastModifiedBy>
  <dcterms:modified xsi:type="dcterms:W3CDTF">2022-10-30T17:02:1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